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9676-D930-4C85-991A-E4CDCF209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EACD-9A5A-4EE4-A8E1-D7DB2D59F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9084-0467-49C7-A10E-42AD1AEE2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D333-BCF6-4B60-87DF-E58DE60F5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0D8E7-13E5-46FF-B9C0-38216BD0BA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C0C2C-7C82-49A4-BEC7-0A320F026E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F5C99-7503-4D95-933C-9FBBA4DF00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C8CA6-B25C-466B-99D1-45742A598C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F9BB8-A9DA-4C97-9B87-A6F081E8D4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CF68F-CDDF-42A4-AA30-6C9650BDE5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147F7-F47B-4D05-B70D-990699DF42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348D-6E43-4D1F-9A25-DADB3FDC8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A513C-3B41-448B-8E48-94679262FB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EE190-EE63-4F5B-9606-A0F627B408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6ED53-E75B-4036-8701-C9DB5B325D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F050B-33B4-4ED4-928C-8D19D31BC8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BBF38-C937-453B-BF3F-4F90D11649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4881-9B37-4C3C-A290-FA48271C8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062A-569C-457F-81DA-87B8CD284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F7A5-88A3-4D3E-9FE4-7DDC70509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1A2E-1497-4FBE-BB88-E969FD7F2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4B31-4F70-4EDC-A7CA-7947E5F56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29EF6-E376-485F-8F40-A23708DCB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7DF8-2AE5-4F6B-B4D8-B75DFB336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2101E97-635C-424A-B34A-53E5915B5CA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AE23698-1046-4618-B442-A048AC8DEE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" descr=""/>
          <p:cNvPicPr/>
          <p:nvPr/>
        </p:nvPicPr>
        <p:blipFill>
          <a:blip r:embed="rId2"/>
          <a:stretch/>
        </p:blipFill>
        <p:spPr>
          <a:xfrm>
            <a:off x="5796000" y="189000"/>
            <a:ext cx="254304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26880"/>
            <a:ext cx="2938320" cy="420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9F4FA92-D87E-40E5-90AB-110C1A5ADB8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10BB7DF-9ED9-4611-A3CA-2017BE7EC77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9-01-24T11:19:16Z</dcterms:modified>
  <cp:revision>316</cp:revision>
  <dc:subject/>
  <dc:title>REGRESSION ANALYSIS</dc:title>
</cp:coreProperties>
</file>